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F287-2AB9-47FC-A02A-EBC37287A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8EC6-86A3-4060-849E-C74D578B2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CCD0-F0CF-481B-A089-D701E1B63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44B5-73E2-45CD-8080-EBE2B5DB2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99D-38BA-4245-AB63-F242BEAC87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BB0-83D2-4FC6-A382-4EA7F35BC5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D8C-76C3-4EBF-843E-762757907A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392-B82F-4594-99FB-1E5197BB9D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A05-850D-4031-BCC5-965C51A3D8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A26-6939-40D1-A75F-82C46B406F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A1A-A090-4E1A-A0AA-2049EEB248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DAA5-3C68-487E-9530-3432636F8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1B4-167F-4F4B-837F-7B967161F1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4C7-35B5-4647-8E46-E0F7C7C260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1B8-2EE5-49CF-B7AF-98E3FDA310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F77-06A2-44F6-BBBA-FA384F0F69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934-E85D-4BD1-80FA-272225E045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8A53-F2DC-4506-BAE8-03876A407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2578-B57A-416D-AEA1-3FD5565CB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D2D6-133B-4C49-8FED-FFF9F98F1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2F25-9CF4-4F19-857F-7EEF6EE8B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7D36-5AA1-4923-B99F-2AA2C5237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E009-8255-4CD1-96A2-1D9D56490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30D6-4874-49F1-995D-808428B5D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684480" y="64400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A5E0-9B38-440B-99BA-AA0F3B215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32000" y="640080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楷体_GB2312"/>
              </a:rPr>
              <a:t>第七章  恒定磁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611280" cy="62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5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/>
          <p:nvPr/>
        </p:nvSpPr>
        <p:spPr>
          <a:xfrm>
            <a:off x="2763720" y="632448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4" action="ppaction://hlinksldjump"/>
          </p:cNvPr>
          <p:cNvSpPr/>
          <p:nvPr/>
        </p:nvSpPr>
        <p:spPr>
          <a:xfrm>
            <a:off x="-36360" y="874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BOOK05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5867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2"/>
          </p:nvPr>
        </p:nvSpPr>
        <p:spPr>
          <a:xfrm>
            <a:off x="3124080" y="64386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66"/>
                </a:solidFill>
                <a:latin typeface="Arial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楷体_GB2312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3"/>
          </p:nvPr>
        </p:nvSpPr>
        <p:spPr>
          <a:xfrm>
            <a:off x="6673320" y="647388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9BF0-23B7-4F42-962B-3423D8F5A8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611280" cy="62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5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4284720" y="620640"/>
            <a:ext cx="44258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63720" y="638172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hlinkshowjump?jump=previousslide"/>
          </p:cNvPr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8459640" y="5973840"/>
            <a:ext cx="582840" cy="55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0720" y="65160"/>
            <a:ext cx="44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0 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第七章教学基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6360" y="874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907920"/>
            <a:ext cx="8064360" cy="5329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7-1&#24658;&#23450;&#30005;&#27969;.ppt" TargetMode="External"/><Relationship Id="rId3" Type="http://schemas.openxmlformats.org/officeDocument/2006/relationships/hyperlink" Target="file:///7-2&#30005;&#28304;%20&#30005;&#21160;&#21183;.ppt" TargetMode="External"/><Relationship Id="rId4" Type="http://schemas.openxmlformats.org/officeDocument/2006/relationships/hyperlink" Target="file:///7-3&#30913;&#22330;%20&#30913;&#24863;&#24378;&#24230;.ppt" TargetMode="External"/><Relationship Id="rId5" Type="http://schemas.openxmlformats.org/officeDocument/2006/relationships/hyperlink" Target="file:///7-4%20&#27605;&#22885;-&#33832;&#20240;&#23572;&#23450;&#24459;.ppt" TargetMode="External"/><Relationship Id="rId6" Type="http://schemas.openxmlformats.org/officeDocument/2006/relationships/hyperlink" Target="file:///7-5%20&#30913;&#36890;&#37327;%20&#30913;&#22330;&#30340;&#39640;&#26031;&#23450;&#29702;.ppt" TargetMode="External"/><Relationship Id="rId7" Type="http://schemas.openxmlformats.org/officeDocument/2006/relationships/hyperlink" Target="file:///7-6%20&#23433;&#22521;&#29615;&#36335;&#23450;&#29702;.ppt" TargetMode="External"/><Relationship Id="rId8" Type="http://schemas.openxmlformats.org/officeDocument/2006/relationships/hyperlink" Target="file:///7-7%20&#24102;&#30005;&#31890;&#23376;&#22312;&#30005;&#22330;&#21644;&#30913;&#22330;&#20013;&#30340;&#36816;&#21160;.ppt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7-8%20&#36733;&#27969;&#23548;&#32447;&#22312;&#30913;&#22330;&#20013;&#25152;&#21463;&#30340;&#21147;.ppt" TargetMode="External"/><Relationship Id="rId2" Type="http://schemas.openxmlformats.org/officeDocument/2006/relationships/hyperlink" Target="file:///7-9&#30913;&#22330;&#20013;&#30340;&#30913;&#20171;&#36136;.ppt" TargetMode="External"/><Relationship Id="rId3" Type="http://schemas.openxmlformats.org/officeDocument/2006/relationships/hyperlink" Target="file:///../&#24635;&#30446;&#24405;/&#24635;&#30446;&#24405;.ppt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457360"/>
            <a:ext cx="7608960" cy="15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华文细黑"/>
                <a:ea typeface="华文细黑"/>
              </a:rPr>
              <a:t>恒  定  磁  场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1066680"/>
            <a:ext cx="5184720" cy="100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华文细黑"/>
                <a:ea typeface="华文细黑"/>
              </a:rPr>
              <a:t>第  七  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348240" y="101520"/>
            <a:ext cx="22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本章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6120" y="62064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1338480" y="990720"/>
            <a:ext cx="2960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0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教学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2"/>
          </p:cNvPr>
          <p:cNvSpPr/>
          <p:nvPr/>
        </p:nvSpPr>
        <p:spPr>
          <a:xfrm>
            <a:off x="1174320" y="1600200"/>
            <a:ext cx="2472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1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恒定电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/>
          </p:cNvPr>
          <p:cNvSpPr/>
          <p:nvPr/>
        </p:nvSpPr>
        <p:spPr>
          <a:xfrm>
            <a:off x="1217520" y="2133720"/>
            <a:ext cx="320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2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电源  电动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4"/>
          </p:cNvPr>
          <p:cNvSpPr/>
          <p:nvPr/>
        </p:nvSpPr>
        <p:spPr>
          <a:xfrm>
            <a:off x="1299240" y="2752560"/>
            <a:ext cx="3448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3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磁场  磁感强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"/>
          </p:cNvPr>
          <p:cNvSpPr/>
          <p:nvPr/>
        </p:nvSpPr>
        <p:spPr>
          <a:xfrm>
            <a:off x="1303560" y="3352680"/>
            <a:ext cx="3642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4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毕奥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萨伐尔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6"/>
          </p:cNvPr>
          <p:cNvSpPr/>
          <p:nvPr/>
        </p:nvSpPr>
        <p:spPr>
          <a:xfrm>
            <a:off x="1627560" y="3962520"/>
            <a:ext cx="4423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5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磁通量  磁场的高斯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7"/>
          </p:cNvPr>
          <p:cNvSpPr/>
          <p:nvPr/>
        </p:nvSpPr>
        <p:spPr>
          <a:xfrm>
            <a:off x="1338480" y="4572000"/>
            <a:ext cx="2960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6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安培环路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8"/>
          </p:cNvPr>
          <p:cNvSpPr/>
          <p:nvPr/>
        </p:nvSpPr>
        <p:spPr>
          <a:xfrm>
            <a:off x="2009160" y="5334120"/>
            <a:ext cx="49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7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带电粒子在电场和磁场中的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8892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4A7E-4FD0-4707-81CC-F491BF5106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348240" y="101520"/>
            <a:ext cx="22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本章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6120" y="62064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/>
          </p:cNvPr>
          <p:cNvSpPr/>
          <p:nvPr/>
        </p:nvSpPr>
        <p:spPr>
          <a:xfrm>
            <a:off x="1845000" y="1143000"/>
            <a:ext cx="44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8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载流导线在磁场中所受的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/>
          </p:cNvPr>
          <p:cNvSpPr/>
          <p:nvPr/>
        </p:nvSpPr>
        <p:spPr>
          <a:xfrm>
            <a:off x="1434600" y="1828800"/>
            <a:ext cx="32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9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磁场中的磁介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3"/>
          </p:cNvPr>
          <p:cNvSpPr/>
          <p:nvPr/>
        </p:nvSpPr>
        <p:spPr>
          <a:xfrm>
            <a:off x="-38160" y="874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36360" y="8892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A872-6153-4DD0-82CF-FE121684F8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556240" y="10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0 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教学基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6120" y="62064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514600"/>
            <a:ext cx="7705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掌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述磁场的物理量——磁感强度的概念，理解它是矢量点函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962520"/>
            <a:ext cx="77072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毕奥－萨伐尔定律，能利用它计算一些简单问题中的磁感强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197000"/>
            <a:ext cx="77706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理解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恒定电流产生的条件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理解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电流密度和电动势的概念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41AB-46A4-4518-925B-985A2B0A2C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3108240"/>
            <a:ext cx="77724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洛伦兹力和安培力的公式 ，能分析电荷在均匀电场和磁场中的受力和运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磁矩的概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187280"/>
            <a:ext cx="7848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稳恒磁场的高斯定理和安培环路定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解用安培环路定理计算磁感强度的条件和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56240" y="10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0 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教学基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6120" y="62064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017D-7F1B-4AB1-B79C-7DF18EE1C2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171440"/>
            <a:ext cx="746784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六    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介质的磁化现象及其微观解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磁场强度的概念以及在各向同性介质中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关系，了解磁介质中的安培环路定理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铁磁质的特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56240" y="1015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7-0 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教学基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6120" y="620640"/>
            <a:ext cx="3824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458200" y="5867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8602560" y="5978520"/>
            <a:ext cx="32724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END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9385-4A7E-4547-A3C3-91A464F05F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5:39:18Z</dcterms:created>
  <dc:creator>朱纯</dc:creator>
  <dc:description/>
  <dc:language>en-US</dc:language>
  <cp:lastModifiedBy>微软用户</cp:lastModifiedBy>
  <dcterms:modified xsi:type="dcterms:W3CDTF">2006-07-17T12:41:40Z</dcterms:modified>
  <cp:revision>37</cp:revision>
  <dc:subject/>
  <dc:title>大  学  物  理</dc:title>
</cp:coreProperties>
</file>